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0C5C-1005-4890-9CA5-6844EA83C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EF29-095B-4E4B-A8B9-8D65A8A2C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CD7F-0B33-43AC-A282-AD349F932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5B8C-B458-4523-BA1A-D7E82CAA3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A4DA-D6E8-4DA5-AA3A-B9F29F529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D32A-1502-4AA3-96BF-B2A8F33F5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7289-D07A-45F5-BB30-F835F850D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8054-F03E-47BF-A477-A58D24A38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B63C-130E-42EC-A1D0-D6D65CEB6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C71E-8DB3-4211-B833-2294A243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C102-3AC5-4841-B55C-E0425DCD4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3519-A455-4A8A-9D95-7A376B58D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2F939-8B53-4BE9-B8AA-AAF875327F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9:18:57Z</dcterms:created>
  <dc:creator>abeason</dc:creator>
  <dc:description/>
  <dc:language>en-US</dc:language>
  <cp:lastModifiedBy>abeason</cp:lastModifiedBy>
  <dcterms:modified xsi:type="dcterms:W3CDTF">2009-01-07T19:19:00Z</dcterms:modified>
  <cp:revision>1</cp:revision>
  <dc:subject/>
  <dc:title>Slide 1</dc:title>
</cp:coreProperties>
</file>